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96800" y="1308240"/>
            <a:ext cx="10431360" cy="5909760"/>
            <a:chOff x="-496800" y="1308240"/>
            <a:chExt cx="10431360" cy="5909760"/>
          </a:xfrm>
        </p:grpSpPr>
        <p:sp>
          <p:nvSpPr>
            <p:cNvPr id="1" name=""/>
            <p:cNvSpPr/>
            <p:nvPr/>
          </p:nvSpPr>
          <p:spPr>
            <a:xfrm rot="10020000">
              <a:off x="-401760" y="1654920"/>
              <a:ext cx="307980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10020000">
              <a:off x="-415440" y="1812600"/>
              <a:ext cx="358776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0020000">
              <a:off x="-420480" y="1929600"/>
              <a:ext cx="396432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9960000">
              <a:off x="-446040" y="2071440"/>
              <a:ext cx="4367160" cy="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900000">
              <a:off x="-458280" y="2261880"/>
              <a:ext cx="488448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9780000">
              <a:off x="-482760" y="2471760"/>
              <a:ext cx="5388120" cy="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9720000">
              <a:off x="-525600" y="2755440"/>
              <a:ext cx="598968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9600000">
              <a:off x="-530640" y="3038040"/>
              <a:ext cx="658980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9480000">
              <a:off x="-638280" y="3354120"/>
              <a:ext cx="738684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9360000">
              <a:off x="-713880" y="3745800"/>
              <a:ext cx="808200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9180000">
              <a:off x="-875880" y="4293720"/>
              <a:ext cx="909000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9000000">
              <a:off x="-285840" y="4731840"/>
              <a:ext cx="940932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8700000">
              <a:off x="2041200" y="4809600"/>
              <a:ext cx="799452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8280000">
              <a:off x="4453920" y="5049360"/>
              <a:ext cx="615780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7920000">
              <a:off x="6859080" y="5768640"/>
              <a:ext cx="355428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7680000">
              <a:off x="9141840" y="6873480"/>
              <a:ext cx="854280" cy="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20000">
              <a:off x="-611280" y="3863520"/>
              <a:ext cx="1064916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00000">
              <a:off x="-690480" y="5591160"/>
              <a:ext cx="725328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">
              <a:off x="-638280" y="5969160"/>
              <a:ext cx="4897440" cy="1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60000">
              <a:off x="-554040" y="6465600"/>
              <a:ext cx="243684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20000">
              <a:off x="-719280" y="5299200"/>
              <a:ext cx="9612360" cy="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00000">
              <a:off x="-558360" y="3481560"/>
              <a:ext cx="10604520" cy="1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1700000">
              <a:off x="-217080" y="3175920"/>
              <a:ext cx="1015056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40000">
              <a:off x="298080" y="2935440"/>
              <a:ext cx="9659880" cy="1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20000">
              <a:off x="1133640" y="2569680"/>
              <a:ext cx="878652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20000">
              <a:off x="1494000" y="2393640"/>
              <a:ext cx="8405640" cy="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60000">
              <a:off x="1829880" y="2228400"/>
              <a:ext cx="805212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11400000">
              <a:off x="2260440" y="2111040"/>
              <a:ext cx="7623360" cy="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11400000">
              <a:off x="2547360" y="1964520"/>
              <a:ext cx="734220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11580000">
              <a:off x="715680" y="2739600"/>
              <a:ext cx="918684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12000000">
              <a:off x="-701640" y="4892400"/>
              <a:ext cx="1080756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1880000">
              <a:off x="-652680" y="4371120"/>
              <a:ext cx="1073916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28800" y="5529240"/>
              <a:ext cx="298440" cy="160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6360" y="505476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100080" y="6016680"/>
              <a:ext cx="347760" cy="177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5800" y="4367160"/>
              <a:ext cx="276120" cy="1396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784520" y="505764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03520" y="4694400"/>
              <a:ext cx="276120" cy="150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46080" y="4664160"/>
              <a:ext cx="268200" cy="1490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68200" y="4359240"/>
              <a:ext cx="266760" cy="1396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693800" y="4335480"/>
              <a:ext cx="276120" cy="1382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70360" y="4073400"/>
              <a:ext cx="276120" cy="1382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00240" y="3789360"/>
              <a:ext cx="236520" cy="1224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10080" y="3522600"/>
              <a:ext cx="237960" cy="1015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73720" y="3773520"/>
              <a:ext cx="247680" cy="1206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97560" y="3097080"/>
              <a:ext cx="228600" cy="1018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07120" y="2919240"/>
              <a:ext cx="227160" cy="1018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65840" y="309420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43600" y="2897280"/>
              <a:ext cx="226800" cy="104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1240" y="3306600"/>
              <a:ext cx="238320" cy="12240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78440" y="3533760"/>
              <a:ext cx="236520" cy="1015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97240" y="40212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17800" y="3313080"/>
              <a:ext cx="246240" cy="1015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97160" y="3557520"/>
              <a:ext cx="245880" cy="1015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27280" y="3784680"/>
              <a:ext cx="237960" cy="120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2120" y="3344760"/>
              <a:ext cx="237960" cy="1018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39800" y="2938320"/>
              <a:ext cx="227160" cy="1018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74840" y="311940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13040" y="293544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1600" y="310824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24360" y="2911320"/>
              <a:ext cx="226800" cy="1018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0720" y="3319560"/>
              <a:ext cx="236520" cy="1220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260280" y="3543480"/>
              <a:ext cx="237960" cy="1220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31760" y="312732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720" y="292896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-181080" y="310212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4120" y="3805200"/>
              <a:ext cx="246240" cy="101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0560" y="3562200"/>
              <a:ext cx="237960" cy="1018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15920" y="4052880"/>
              <a:ext cx="276480" cy="147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22720" y="3290760"/>
              <a:ext cx="247680" cy="1206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98520" y="2766960"/>
              <a:ext cx="217800" cy="85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11520" y="2598840"/>
              <a:ext cx="217440" cy="838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2443320"/>
              <a:ext cx="219240" cy="838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4120" y="2592360"/>
              <a:ext cx="217440" cy="85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0600" y="2749680"/>
              <a:ext cx="219240" cy="856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79880" y="2454120"/>
              <a:ext cx="217440" cy="84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760840"/>
              <a:ext cx="217440" cy="838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70280" y="2602080"/>
              <a:ext cx="217440" cy="838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70400" y="2743200"/>
              <a:ext cx="217440" cy="85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46160" y="2454120"/>
              <a:ext cx="219240" cy="842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360" y="2595600"/>
              <a:ext cx="217440" cy="842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20" y="2448000"/>
              <a:ext cx="218880" cy="84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103320" y="2763720"/>
              <a:ext cx="219240" cy="842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30760" y="2592360"/>
              <a:ext cx="220680" cy="824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70600" y="2452680"/>
              <a:ext cx="218880" cy="856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8640" y="2746440"/>
              <a:ext cx="220680" cy="85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2640" y="2598840"/>
              <a:ext cx="217440" cy="838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83280" y="2443320"/>
              <a:ext cx="217440" cy="838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5280" y="2455920"/>
              <a:ext cx="220680" cy="85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26080" y="2768760"/>
              <a:ext cx="227160" cy="824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3320" y="2612880"/>
              <a:ext cx="226800" cy="842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9280" y="6019920"/>
              <a:ext cx="347400" cy="1857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70120" y="6621480"/>
              <a:ext cx="338040" cy="187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65440" y="5081760"/>
              <a:ext cx="298440" cy="158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29280" y="4710240"/>
              <a:ext cx="276120" cy="1476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65680" y="4378320"/>
              <a:ext cx="276120" cy="1396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70480" y="4022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08360" y="553068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37400" y="3768840"/>
              <a:ext cx="237960" cy="122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65760" y="3289320"/>
              <a:ext cx="238320" cy="1206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64360" y="3529080"/>
              <a:ext cx="237960" cy="1015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13520" y="3097080"/>
              <a:ext cx="227160" cy="1018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99360" y="2928960"/>
              <a:ext cx="228600" cy="1015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96360" y="2766960"/>
              <a:ext cx="220320" cy="8568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72480" y="2604960"/>
              <a:ext cx="217440" cy="842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23400" y="2454120"/>
              <a:ext cx="226800" cy="8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8760" y="2319480"/>
              <a:ext cx="196920" cy="838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08720" y="2317680"/>
              <a:ext cx="198360" cy="842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37080" y="2317680"/>
              <a:ext cx="198720" cy="842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600" y="2211480"/>
              <a:ext cx="196920" cy="856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99120" y="2087640"/>
              <a:ext cx="198360" cy="842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65840" y="1884240"/>
              <a:ext cx="198360" cy="84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44880" y="2214720"/>
              <a:ext cx="198360" cy="85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92520" y="1968480"/>
              <a:ext cx="198360" cy="856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7480" y="2073240"/>
              <a:ext cx="198360" cy="856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64000" y="2336760"/>
              <a:ext cx="196920" cy="824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82560" y="2306520"/>
              <a:ext cx="198720" cy="842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200" y="2073240"/>
              <a:ext cx="196560" cy="856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8760" y="2197080"/>
              <a:ext cx="196920" cy="856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104760" y="1857240"/>
              <a:ext cx="198360" cy="84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53240" y="2208240"/>
              <a:ext cx="189000" cy="763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21400" y="2333520"/>
              <a:ext cx="185760" cy="730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88080" y="2193840"/>
              <a:ext cx="187560" cy="745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56400" y="2193840"/>
              <a:ext cx="188640" cy="745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8840" y="1981080"/>
              <a:ext cx="187200" cy="730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61040" y="1782720"/>
              <a:ext cx="188640" cy="730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80000" y="1676520"/>
              <a:ext cx="189000" cy="7596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57480" y="1668600"/>
              <a:ext cx="18720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4760" y="2062080"/>
              <a:ext cx="18720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82520" y="2184480"/>
              <a:ext cx="18756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9880" y="2314440"/>
              <a:ext cx="187200" cy="748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040" y="1700280"/>
              <a:ext cx="189000" cy="75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4680" y="1684440"/>
              <a:ext cx="187560" cy="75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1640" y="1706400"/>
              <a:ext cx="185760" cy="748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34320" y="2073240"/>
              <a:ext cx="196560" cy="763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75480" y="1873080"/>
              <a:ext cx="198360" cy="748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87840" y="1982880"/>
              <a:ext cx="198720" cy="74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38720" y="1787400"/>
              <a:ext cx="198360" cy="730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60640" y="1685880"/>
              <a:ext cx="198720" cy="7452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21240" y="2343240"/>
              <a:ext cx="196920" cy="730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1080" y="2090880"/>
              <a:ext cx="198360" cy="745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46400" y="1865160"/>
              <a:ext cx="196920" cy="748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52840" y="1770120"/>
              <a:ext cx="198360" cy="730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11560" y="1871640"/>
              <a:ext cx="196920" cy="7632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38320" y="2193840"/>
              <a:ext cx="198720" cy="7452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20960" y="1971720"/>
              <a:ext cx="196920" cy="7632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95680" y="1763640"/>
              <a:ext cx="19836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1000" y="2082960"/>
              <a:ext cx="198360" cy="759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60640" y="2171880"/>
              <a:ext cx="198360" cy="759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25600" y="1860480"/>
              <a:ext cx="19836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9800" y="1971720"/>
              <a:ext cx="19836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4720" y="1787400"/>
              <a:ext cx="19836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35040" y="1878120"/>
              <a:ext cx="19692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71440" y="1801800"/>
              <a:ext cx="198720" cy="763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68560" y="1960560"/>
              <a:ext cx="19656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2240" y="1884240"/>
              <a:ext cx="19836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5960" y="1987560"/>
              <a:ext cx="19692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7360" y="1768320"/>
              <a:ext cx="19836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169920" y="2120760"/>
              <a:ext cx="19692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38320" y="1603440"/>
              <a:ext cx="179280" cy="633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92240" y="1622520"/>
              <a:ext cx="179640" cy="651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97120" y="1614600"/>
              <a:ext cx="179280" cy="633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65640" y="1603440"/>
              <a:ext cx="177840" cy="651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27440" y="1503360"/>
              <a:ext cx="179280" cy="651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24240" y="1592280"/>
              <a:ext cx="179640" cy="651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70040" y="2300400"/>
              <a:ext cx="187560" cy="856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6480" y="2460600"/>
              <a:ext cx="217440" cy="856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26040" y="2079720"/>
              <a:ext cx="198720" cy="856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0960" y="1954080"/>
              <a:ext cx="196920" cy="856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97320" y="1447920"/>
              <a:ext cx="141120" cy="568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55800" y="1447920"/>
              <a:ext cx="139680" cy="568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24080" y="1382760"/>
              <a:ext cx="139680" cy="57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40160" y="1308240"/>
              <a:ext cx="147600" cy="568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4640" y="1382760"/>
              <a:ext cx="149400" cy="57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64000" y="1473120"/>
              <a:ext cx="147600" cy="57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06720" y="1530360"/>
              <a:ext cx="16812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46480" y="1538280"/>
              <a:ext cx="158760" cy="763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23880" y="1522440"/>
              <a:ext cx="179640" cy="763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9120" y="6642000"/>
              <a:ext cx="345960" cy="1746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5120" y="6048360"/>
              <a:ext cx="347760" cy="187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51400" y="513396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05440" y="4732200"/>
              <a:ext cx="277920" cy="149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38680" y="555948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69200" y="4361040"/>
              <a:ext cx="268200" cy="139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61240" y="4057560"/>
              <a:ext cx="276120" cy="149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80280" y="3789360"/>
              <a:ext cx="237960" cy="1206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62840" y="3303720"/>
              <a:ext cx="238320" cy="12204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45320" y="3537000"/>
              <a:ext cx="246240" cy="1015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29600" y="313380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88440" y="2944800"/>
              <a:ext cx="226800" cy="1015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756640" y="2770200"/>
              <a:ext cx="217440" cy="842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962920" y="2624040"/>
              <a:ext cx="220680" cy="8568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177480" y="2468520"/>
              <a:ext cx="217440" cy="8568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81640" y="6715080"/>
              <a:ext cx="34776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83280" y="6086520"/>
              <a:ext cx="347760" cy="185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0840" y="6105600"/>
              <a:ext cx="355680" cy="1760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70800" y="6678720"/>
              <a:ext cx="347760" cy="17460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1960" y="5591160"/>
              <a:ext cx="298440" cy="1602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7600" y="5167440"/>
              <a:ext cx="295200" cy="158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50360" y="5627520"/>
              <a:ext cx="295200" cy="15876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80240" y="4719600"/>
              <a:ext cx="276480" cy="1382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991720" y="512460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52080" y="4730760"/>
              <a:ext cx="276120" cy="14760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67600" y="4387680"/>
              <a:ext cx="276480" cy="1382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412120" y="4079880"/>
              <a:ext cx="276120" cy="13968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258480" y="3352680"/>
              <a:ext cx="236520" cy="122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756640" y="3789360"/>
              <a:ext cx="247680" cy="122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36000" y="3559320"/>
              <a:ext cx="238320" cy="1015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501120" y="315432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691560" y="295128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645480" y="4398840"/>
              <a:ext cx="276480" cy="1382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496800" y="4707000"/>
              <a:ext cx="266760" cy="1476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-378000" y="4060800"/>
              <a:ext cx="276480" cy="1494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396720" y="2327400"/>
              <a:ext cx="18864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577440" y="6613560"/>
              <a:ext cx="357120" cy="1760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-498600" y="1311120"/>
            <a:ext cx="10431720" cy="5909760"/>
            <a:chOff x="-498600" y="1311120"/>
            <a:chExt cx="10431720" cy="5909760"/>
          </a:xfrm>
        </p:grpSpPr>
        <p:sp>
          <p:nvSpPr>
            <p:cNvPr id="255" name=""/>
            <p:cNvSpPr/>
            <p:nvPr/>
          </p:nvSpPr>
          <p:spPr>
            <a:xfrm rot="10020000">
              <a:off x="-403200" y="1658160"/>
              <a:ext cx="307980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0020000">
              <a:off x="-417240" y="1814040"/>
              <a:ext cx="358776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0020000">
              <a:off x="-422280" y="1931760"/>
              <a:ext cx="3963960" cy="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9960000">
              <a:off x="-447840" y="2072520"/>
              <a:ext cx="436752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9900000">
              <a:off x="-461520" y="2263320"/>
              <a:ext cx="488448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9780000">
              <a:off x="-484200" y="2475000"/>
              <a:ext cx="5388120" cy="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9720000">
              <a:off x="-528480" y="2758680"/>
              <a:ext cx="598932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9600000">
              <a:off x="-532080" y="3040200"/>
              <a:ext cx="6589800" cy="1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9480000">
              <a:off x="-639360" y="3355560"/>
              <a:ext cx="738648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9360000">
              <a:off x="-717120" y="3749040"/>
              <a:ext cx="808200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9180000">
              <a:off x="-877680" y="4296960"/>
              <a:ext cx="909000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9000000">
              <a:off x="-286920" y="4735080"/>
              <a:ext cx="940896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8700000">
              <a:off x="2039400" y="4812840"/>
              <a:ext cx="799488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8280000">
              <a:off x="4452480" y="5052600"/>
              <a:ext cx="615816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7920000">
              <a:off x="6857280" y="5771880"/>
              <a:ext cx="355428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7680000">
              <a:off x="9140400" y="6876360"/>
              <a:ext cx="85392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20000">
              <a:off x="-612720" y="3866760"/>
              <a:ext cx="1064880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500000">
              <a:off x="-692280" y="5594400"/>
              <a:ext cx="725328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">
              <a:off x="-639720" y="5972040"/>
              <a:ext cx="489744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60000">
              <a:off x="-555480" y="6469200"/>
              <a:ext cx="2436840" cy="1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320000">
              <a:off x="-722160" y="5302080"/>
              <a:ext cx="961200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900000">
              <a:off x="-560160" y="3484440"/>
              <a:ext cx="1060452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1700000">
              <a:off x="-218880" y="3179160"/>
              <a:ext cx="1015056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840000">
              <a:off x="296640" y="2938320"/>
              <a:ext cx="965988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720000">
              <a:off x="1131840" y="2571840"/>
              <a:ext cx="878688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720000">
              <a:off x="1492200" y="2395440"/>
              <a:ext cx="840600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660000">
              <a:off x="1828440" y="2231640"/>
              <a:ext cx="8051760" cy="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400000">
              <a:off x="2259000" y="2114280"/>
              <a:ext cx="7623360" cy="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1400000">
              <a:off x="2545560" y="1967760"/>
              <a:ext cx="734220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580000">
              <a:off x="713520" y="2743200"/>
              <a:ext cx="9186840" cy="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2000000">
              <a:off x="-703080" y="4895640"/>
              <a:ext cx="10807920" cy="1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1880000">
              <a:off x="-654120" y="4374720"/>
              <a:ext cx="10739520" cy="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27000" y="5532480"/>
              <a:ext cx="298440" cy="160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920" y="505764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101520" y="6019920"/>
              <a:ext cx="347760" cy="177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94000" y="4370400"/>
              <a:ext cx="276120" cy="1396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2720" y="506088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02080" y="4695840"/>
              <a:ext cx="27612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44640" y="4667400"/>
              <a:ext cx="268200" cy="1490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760" y="4362480"/>
              <a:ext cx="266760" cy="1396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92360" y="4338720"/>
              <a:ext cx="276120" cy="1378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68560" y="4076640"/>
              <a:ext cx="276480" cy="1382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98800" y="3792600"/>
              <a:ext cx="236520" cy="1220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08280" y="3525840"/>
              <a:ext cx="238320" cy="1015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71920" y="3776760"/>
              <a:ext cx="247680" cy="1206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95760" y="3100320"/>
              <a:ext cx="228600" cy="1015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05680" y="2922480"/>
              <a:ext cx="226800" cy="1018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64400" y="3095640"/>
              <a:ext cx="226800" cy="1015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1800" y="2898720"/>
              <a:ext cx="227160" cy="104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19800" y="3308400"/>
              <a:ext cx="237960" cy="1220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76640" y="3535200"/>
              <a:ext cx="236880" cy="10188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95440" y="402444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14560" y="3316320"/>
              <a:ext cx="246240" cy="1015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95360" y="3560760"/>
              <a:ext cx="246240" cy="1015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25480" y="3787920"/>
              <a:ext cx="238320" cy="120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60680" y="3348000"/>
              <a:ext cx="237960" cy="101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38360" y="2941560"/>
              <a:ext cx="226800" cy="101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73400" y="3122640"/>
              <a:ext cx="226800" cy="101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11600" y="2938320"/>
              <a:ext cx="226800" cy="1018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40160" y="3111480"/>
              <a:ext cx="226800" cy="101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2560" y="291456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9280" y="3322800"/>
              <a:ext cx="236520" cy="1220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-263520" y="3544920"/>
              <a:ext cx="237960" cy="1220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30320" y="312912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280" y="2930400"/>
              <a:ext cx="227160" cy="1018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-182520" y="3105000"/>
              <a:ext cx="226800" cy="1018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0880" y="3807000"/>
              <a:ext cx="246240" cy="101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57320" y="3565440"/>
              <a:ext cx="237960" cy="101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14480" y="4056120"/>
              <a:ext cx="276120" cy="147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1280" y="3294000"/>
              <a:ext cx="247680" cy="1206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97080" y="2770200"/>
              <a:ext cx="217440" cy="85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09720" y="2602080"/>
              <a:ext cx="217800" cy="838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68560" y="2446200"/>
              <a:ext cx="218880" cy="84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2680" y="2595600"/>
              <a:ext cx="217440" cy="85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19160" y="2752560"/>
              <a:ext cx="219240" cy="860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78080" y="2457360"/>
              <a:ext cx="217440" cy="84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11640" y="2762280"/>
              <a:ext cx="217440" cy="84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68840" y="2604960"/>
              <a:ext cx="217440" cy="84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68960" y="2746440"/>
              <a:ext cx="217440" cy="85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2920" y="2457360"/>
              <a:ext cx="219240" cy="842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3560" y="2598840"/>
              <a:ext cx="217800" cy="838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520" y="2449440"/>
              <a:ext cx="219240" cy="84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-104760" y="2766960"/>
              <a:ext cx="219240" cy="842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9320" y="2595600"/>
              <a:ext cx="220680" cy="824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8800" y="2454120"/>
              <a:ext cx="219240" cy="860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07200" y="2749680"/>
              <a:ext cx="220320" cy="85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30840" y="2602080"/>
              <a:ext cx="217440" cy="838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81840" y="2446200"/>
              <a:ext cx="217440" cy="84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43840" y="2459160"/>
              <a:ext cx="220680" cy="85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24640" y="2771640"/>
              <a:ext cx="227160" cy="828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51520" y="2616120"/>
              <a:ext cx="227160" cy="842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87480" y="6022800"/>
              <a:ext cx="347760" cy="1857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8320" y="6622920"/>
              <a:ext cx="338040" cy="187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64000" y="508464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27480" y="4713120"/>
              <a:ext cx="276120" cy="1479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64240" y="4381560"/>
              <a:ext cx="276120" cy="1396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67240" y="4025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05120" y="553392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35600" y="3772080"/>
              <a:ext cx="238320" cy="122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64320" y="3292560"/>
              <a:ext cx="237960" cy="1206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62560" y="3532320"/>
              <a:ext cx="238320" cy="1015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12080" y="3100320"/>
              <a:ext cx="226800" cy="1015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97560" y="2930400"/>
              <a:ext cx="228600" cy="1018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4560" y="2770200"/>
              <a:ext cx="220680" cy="8568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70680" y="2608200"/>
              <a:ext cx="217800" cy="842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21600" y="2457360"/>
              <a:ext cx="227160" cy="856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45520" y="2320920"/>
              <a:ext cx="196920" cy="842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07280" y="2320920"/>
              <a:ext cx="198360" cy="842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35640" y="2320920"/>
              <a:ext cx="198360" cy="842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79800" y="2212920"/>
              <a:ext cx="196920" cy="856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97320" y="2090880"/>
              <a:ext cx="198720" cy="838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64040" y="1887480"/>
              <a:ext cx="198360" cy="84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43440" y="2217600"/>
              <a:ext cx="198360" cy="860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91080" y="1969920"/>
              <a:ext cx="198360" cy="860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25680" y="2076480"/>
              <a:ext cx="198720" cy="856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62200" y="2340000"/>
              <a:ext cx="196920" cy="824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81120" y="2309760"/>
              <a:ext cx="198360" cy="842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8400" y="2076480"/>
              <a:ext cx="196920" cy="856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7320" y="2200320"/>
              <a:ext cx="196560" cy="856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06200" y="1860480"/>
              <a:ext cx="198360" cy="84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51800" y="2211480"/>
              <a:ext cx="189000" cy="759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19960" y="2336760"/>
              <a:ext cx="185760" cy="730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84840" y="2197080"/>
              <a:ext cx="187560" cy="745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3160" y="2197080"/>
              <a:ext cx="189000" cy="745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67400" y="1984320"/>
              <a:ext cx="187200" cy="730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59240" y="1785960"/>
              <a:ext cx="189000" cy="730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78200" y="1679400"/>
              <a:ext cx="189000" cy="7632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56040" y="1670040"/>
              <a:ext cx="18720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42960" y="2065320"/>
              <a:ext cx="18756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81080" y="2187720"/>
              <a:ext cx="18720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6640" y="2317680"/>
              <a:ext cx="18756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1240" y="1703520"/>
              <a:ext cx="189000" cy="75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3240" y="1687680"/>
              <a:ext cx="187200" cy="75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00200" y="1709640"/>
              <a:ext cx="185760" cy="748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31080" y="2076480"/>
              <a:ext cx="196920" cy="763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73680" y="1874880"/>
              <a:ext cx="198360" cy="74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86400" y="1986120"/>
              <a:ext cx="198360" cy="745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37280" y="1790640"/>
              <a:ext cx="198360" cy="730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59200" y="1689120"/>
              <a:ext cx="198360" cy="7452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19440" y="2346480"/>
              <a:ext cx="196920" cy="7272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19640" y="2093760"/>
              <a:ext cx="198360" cy="748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44960" y="1868400"/>
              <a:ext cx="196920" cy="748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51400" y="1771560"/>
              <a:ext cx="198360" cy="730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09760" y="1873080"/>
              <a:ext cx="196920" cy="7632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36880" y="2197080"/>
              <a:ext cx="198360" cy="7452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19520" y="1974960"/>
              <a:ext cx="196560" cy="759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693880" y="1766880"/>
              <a:ext cx="19872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19200" y="2084400"/>
              <a:ext cx="198720" cy="7632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8840" y="2174760"/>
              <a:ext cx="198720" cy="7632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24160" y="1863720"/>
              <a:ext cx="19836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08000" y="1973160"/>
              <a:ext cx="198720" cy="748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43280" y="1790640"/>
              <a:ext cx="19836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31800" y="1881360"/>
              <a:ext cx="19692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70000" y="1805040"/>
              <a:ext cx="198360" cy="763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66760" y="1963800"/>
              <a:ext cx="196920" cy="745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0800" y="1887480"/>
              <a:ext cx="19836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4520" y="1990800"/>
              <a:ext cx="19692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5920" y="1770120"/>
              <a:ext cx="19836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173160" y="2124000"/>
              <a:ext cx="19692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36520" y="1604880"/>
              <a:ext cx="179640" cy="637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90800" y="1625760"/>
              <a:ext cx="179280" cy="648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95680" y="1617840"/>
              <a:ext cx="179280" cy="633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63840" y="1604880"/>
              <a:ext cx="177840" cy="651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24200" y="1506600"/>
              <a:ext cx="179640" cy="651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22800" y="1595520"/>
              <a:ext cx="179280" cy="651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68600" y="2303640"/>
              <a:ext cx="187200" cy="856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45040" y="2463840"/>
              <a:ext cx="217440" cy="856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24600" y="2081160"/>
              <a:ext cx="198360" cy="856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29520" y="1957320"/>
              <a:ext cx="196560" cy="856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95520" y="1450800"/>
              <a:ext cx="141480" cy="57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54360" y="1450800"/>
              <a:ext cx="139680" cy="57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20840" y="1386000"/>
              <a:ext cx="139680" cy="568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38360" y="1311120"/>
              <a:ext cx="147600" cy="57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13200" y="1386000"/>
              <a:ext cx="149040" cy="568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62200" y="1476360"/>
              <a:ext cx="147600" cy="57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03480" y="1531800"/>
              <a:ext cx="168480" cy="748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44680" y="1541520"/>
              <a:ext cx="158760" cy="763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22440" y="1525680"/>
              <a:ext cx="179280" cy="75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7320" y="6645240"/>
              <a:ext cx="345960" cy="1746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71880" y="6051600"/>
              <a:ext cx="347760" cy="187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49960" y="513720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02200" y="4735440"/>
              <a:ext cx="277920" cy="149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37240" y="556272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67400" y="4363920"/>
              <a:ext cx="268200" cy="139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59440" y="4060800"/>
              <a:ext cx="276480" cy="149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78840" y="3792600"/>
              <a:ext cx="237960" cy="1206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61400" y="3305160"/>
              <a:ext cx="237960" cy="12240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43880" y="3538440"/>
              <a:ext cx="245880" cy="1015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228160" y="3137040"/>
              <a:ext cx="226800" cy="1015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86640" y="2948040"/>
              <a:ext cx="227160" cy="1015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755200" y="2773440"/>
              <a:ext cx="217440" cy="842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961480" y="2627280"/>
              <a:ext cx="220680" cy="8568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175680" y="2471760"/>
              <a:ext cx="217440" cy="8568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80200" y="6718320"/>
              <a:ext cx="347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81840" y="6087960"/>
              <a:ext cx="347400" cy="185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69400" y="6108840"/>
              <a:ext cx="355320" cy="1760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69360" y="6681960"/>
              <a:ext cx="347400" cy="17460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80160" y="5594400"/>
              <a:ext cx="298440" cy="1602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65800" y="5168880"/>
              <a:ext cx="295560" cy="158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548560" y="5630760"/>
              <a:ext cx="295560" cy="15876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78800" y="4722840"/>
              <a:ext cx="276120" cy="1382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988480" y="5127480"/>
              <a:ext cx="298440" cy="158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350280" y="4734000"/>
              <a:ext cx="276480" cy="14760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66160" y="4389480"/>
              <a:ext cx="276120" cy="1382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10680" y="4081320"/>
              <a:ext cx="276120" cy="1396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256680" y="3355920"/>
              <a:ext cx="236520" cy="122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55200" y="3792600"/>
              <a:ext cx="247680" cy="122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032760" y="3562200"/>
              <a:ext cx="238320" cy="1018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499680" y="3157560"/>
              <a:ext cx="226800" cy="10152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690120" y="2954160"/>
              <a:ext cx="227160" cy="10188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644040" y="4402080"/>
              <a:ext cx="276120" cy="1382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-498600" y="4710240"/>
              <a:ext cx="266760" cy="1476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379440" y="4064040"/>
              <a:ext cx="276120" cy="1490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-398520" y="2330280"/>
              <a:ext cx="189000" cy="730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575640" y="6616800"/>
              <a:ext cx="357480" cy="1760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391760"/>
            <a:ext cx="777240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4400" spc="-1" strike="noStrike">
                <a:solidFill>
                  <a:srgbClr val="000000"/>
                </a:solidFill>
                <a:latin typeface="Bradley Hand ITC"/>
              </a:rPr>
              <a:t>eGo</a:t>
            </a:r>
            <a:r>
              <a:rPr b="1" lang="en-US" sz="12000" spc="-1" strike="noStrike">
                <a:solidFill>
                  <a:srgbClr val="000000"/>
                </a:solidFill>
                <a:latin typeface="Bradley Hand ITC"/>
              </a:rPr>
              <a:t>Soft</a:t>
            </a:r>
            <a:endParaRPr b="0" lang="en-US" sz="1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249720"/>
            <a:ext cx="6400800" cy="28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 4 Projec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ers Re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 Grosve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y Ry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 Ku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rey Mahm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ame Subsystem Refa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d Player class completely (was a pure data cla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er functionality now handled by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d network functionality (moved to network clas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loop to initialize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ard now does bounds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 Refa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ulates GUI’s functionality, and mirrors changes over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s ActionEvents to the Controller the same way that the GUI d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arent, Game always acts like a local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480" y="1371600"/>
            <a:ext cx="89532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trics Comparis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s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– 16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– 344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o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r – not enough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Button on a network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actor of FirstScreen, Second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fficul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ing on best overall system desig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V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ing what to keep, what to refactor considering the limited tim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while implementing and half of the system is still br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rong and Weak Poi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Checkers game doesn’t have to know about network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 can be easily changed depending on which strategy implementation i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VC – Any piece of it can be substituted (Example, would be easy to expand to 3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architecture still contains a lot of dependencies – need more time to do complete refac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riginal Patterns In Us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ade: Interface between GUI and GameKernel (Façade.jav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properly implemented because it is performing control operations in both dire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nd: Turned into data class with no behavior (Move.jav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d an execute (NetworkMove.jav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y: Player is abstract, Network and Local implement the different ways they work. (Player.java/NetworkPlayer.java/LocalPlayer.jav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to fire events (Timer.java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ed to fire events (Notifier.jav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tor: Driver handles most communication, but not all.(Driver.jav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ti-Patter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b (Driver.ja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ontroller class, multiple simple data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yer, Piece, M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 and Paste Programming (CheckerGUI.java / Board.ja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ghetti Code (Network Pl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va Flow (Tim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d Smel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coding of board squ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s not declared 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s returning cons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leanup of debug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ngs not extern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lear variable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heckerGUI.java, Rules.java, Secondscreen.java, NetworkPlayer.java, Firstscreen.java, Driver.jav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 Catch blocks everywhere that don't provide any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d Smells (cont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8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Components(CheckerGUI.java, Firstscreen.java, Secondscreen.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Command(NetworkPlayer.java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idateMove(Rules.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ForPossibleJumps(Rules.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ant if - actionPerformed(CheckerGUI.jav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nested block depth - update(CheckerGUI.jav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lasses - Piece.java, KingPiece.java, SinglePiece.java, Move.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nested blocks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les.jav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eckForPossibleJumps, checkForOtherPossibleJump, wallPieceMove, validateMov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onPerformed (Secondscreen.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plicated code - Rules.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factor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V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ton (R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verall UM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762120" y="1228680"/>
            <a:ext cx="7772400" cy="53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UI Refa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d control functionality from the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s model for updates, pulls 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d the buttons into 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 JFrame into JPa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ules Refa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validates, does not execute mo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elton – Single instance needed through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y – Allows for play with or without force ju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 into smaller private methods instead of a large single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generic mathematical algorithm instead of checkers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ff</cp:lastModifiedBy>
  <dcterms:modified xsi:type="dcterms:W3CDTF">2005-11-08T05:44:31Z</dcterms:modified>
  <cp:revision>1</cp:revision>
  <dc:subject/>
  <dc:title>eGoSoft</dc:title>
</cp:coreProperties>
</file>